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A2E-54E9-494B-ACCD-BE123570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C9B-64D0-4BC6-A40F-AC52D77D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A1A-B125-42A8-A716-CD0D8F68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158-F443-47DB-A847-CE5BE784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A1FD-1907-4385-9F91-0050C43F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7991-F883-458F-A0C9-DD4027E9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303A-7BD2-4D41-9273-380C03A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638B-FB88-416A-8097-DD12680F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B125-2104-4AA1-97D4-1F9DCF93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EDEF-191C-4700-B155-1EE0A48B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6A21-339F-46AC-A73F-C9B227F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A85-7025-4C6E-BF42-64F1E161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E8AF-62DB-4A7D-942C-D1BF989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AAB5-D44C-448E-834D-489B5FC3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4026-15B9-4BC6-8883-3B78C9EC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DBFC-8FE2-434A-A4BC-C0D58151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3A79-1209-424B-B72A-7D511061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59F-A59F-40C0-A7BD-C99CBA04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715-7963-425C-AFDC-373899A0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BFE-E268-4808-BE83-0DDE27DA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A4A-5C40-41AB-8631-03358D19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B1D-3742-4A41-A175-AF8D337B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44C-4987-43BE-A7BD-C1B8B9A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DC7-A9A6-467B-9A66-43A1184C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0F3E-2BE7-41F9-AC60-642A73500F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E005-E9E0-4BB8-97B7-150EE9A7A4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Volumes/6th%20Grade/TBriscoStudents/Robbie%20Spilker/Math/Algebra.pp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ple Equation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809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3809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5334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4495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/>
          </p:cNvPr>
          <p:cNvSpPr/>
          <p:nvPr/>
        </p:nvSpPr>
        <p:spPr>
          <a:xfrm>
            <a:off x="0" y="1066680"/>
            <a:ext cx="1752480" cy="838440"/>
          </a:xfrm>
          <a:custGeom>
            <a:avLst/>
            <a:gdLst>
              <a:gd name="textAreaLeft" fmla="*/ 77760 w 1752480"/>
              <a:gd name="textAreaRight" fmla="*/ 1674720 w 1752480"/>
              <a:gd name="textAreaTop" fmla="*/ 77760 h 838440"/>
              <a:gd name="textAreaBottom" fmla="*/ 7606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133" y="2005"/>
                </a:lnTo>
                <a:lnTo>
                  <a:pt x="2005" y="2005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133" y="19595"/>
                </a:lnTo>
                <a:lnTo>
                  <a:pt x="43133" y="2005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43133" y="19595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bf0002">
                  <a:alpha val="75294"/>
                </a:srgbClr>
              </a:gs>
              <a:gs pos="100000">
                <a:srgbClr val="580000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1143000"/>
            <a:ext cx="1523880" cy="685800"/>
          </a:xfrm>
          <a:custGeom>
            <a:avLst/>
            <a:gdLst>
              <a:gd name="textAreaLeft" fmla="*/ 68040 w 1523880"/>
              <a:gd name="textAreaRight" fmla="*/ 1455840 w 152388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5832" y="2150"/>
                </a:lnTo>
                <a:lnTo>
                  <a:pt x="2150" y="215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5832" y="19450"/>
                </a:lnTo>
                <a:lnTo>
                  <a:pt x="45832" y="215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45832" y="1945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bf1bb2">
                  <a:alpha val="75294"/>
                </a:srgbClr>
              </a:gs>
              <a:gs pos="100000">
                <a:srgbClr val="580c52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63868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50292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930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029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enthesi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914400"/>
            <a:ext cx="2361960" cy="609480"/>
          </a:xfrm>
          <a:custGeom>
            <a:avLst/>
            <a:gdLst>
              <a:gd name="textAreaLeft" fmla="*/ 61920 w 2361960"/>
              <a:gd name="textAreaRight" fmla="*/ 2300040 w 2361960"/>
              <a:gd name="textAreaTop" fmla="*/ 61920 h 609480"/>
              <a:gd name="textAreaBottom" fmla="*/ 547560 h 609480"/>
            </a:gdLst>
            <a:ahLst/>
            <a:rect l="textAreaLeft" t="textAreaTop" r="textAreaRight" b="textAreaBottom"/>
            <a:pathLst>
              <a:path w="83671" h="21600">
                <a:moveTo>
                  <a:pt x="0" y="0"/>
                </a:moveTo>
                <a:lnTo>
                  <a:pt x="83671" y="0"/>
                </a:lnTo>
                <a:lnTo>
                  <a:pt x="83671" y="21600"/>
                </a:lnTo>
                <a:lnTo>
                  <a:pt x="0" y="21600"/>
                </a:lnTo>
                <a:close/>
              </a:path>
              <a:path fill="lightenLess" w="83671" h="21600">
                <a:moveTo>
                  <a:pt x="0" y="0"/>
                </a:moveTo>
                <a:lnTo>
                  <a:pt x="83671" y="0"/>
                </a:lnTo>
                <a:lnTo>
                  <a:pt x="81477" y="2194"/>
                </a:lnTo>
                <a:lnTo>
                  <a:pt x="2194" y="2194"/>
                </a:lnTo>
                <a:close/>
              </a:path>
              <a:path fill="darken" w="83671" h="21600">
                <a:moveTo>
                  <a:pt x="83671" y="0"/>
                </a:moveTo>
                <a:lnTo>
                  <a:pt x="83671" y="21600"/>
                </a:lnTo>
                <a:lnTo>
                  <a:pt x="81477" y="19406"/>
                </a:lnTo>
                <a:lnTo>
                  <a:pt x="81477" y="2194"/>
                </a:lnTo>
                <a:close/>
              </a:path>
              <a:path fill="darkenLess" w="83671" h="21600">
                <a:moveTo>
                  <a:pt x="83671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81477" y="19406"/>
                </a:lnTo>
                <a:close/>
              </a:path>
              <a:path fill="lighten" w="83671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8:37:19Z</dcterms:created>
  <dc:creator>Northmont City Schools</dc:creator>
  <dc:description/>
  <dc:language>en-US</dc:language>
  <cp:lastModifiedBy>Northmont City Schools</cp:lastModifiedBy>
  <dcterms:modified xsi:type="dcterms:W3CDTF">2010-03-10T15:51:00Z</dcterms:modified>
  <cp:revision>5</cp:revision>
  <dc:subject/>
  <dc:title>Answer Key</dc:title>
</cp:coreProperties>
</file>